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631-5143-46D1-B89B-A640D708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2CD-9F13-4710-9EC3-3889C8BC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C03-4E1D-418E-947D-E7A77A1B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7DD-9177-44DD-937D-D0284A9D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734-BF6A-4CEE-8B26-8F16D334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A98-5CB7-4BCC-9DD9-3D09A56C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988-9F0E-4449-BFB9-2639A3BE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44F-F5A0-4BE8-AEFD-FDBBEBE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4C3-9CB5-42C4-96B4-D1ED1F09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75E-D206-4042-B5E4-72423C6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818-754C-4139-9762-358083B4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272-C9CC-4513-8B2B-D7FFFD8F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7B6F-4572-4B45-B6CB-D95410171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F545-7A48-45E8-AE0E-6D361B4AE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тиляция и пневмотранспорт перерабатывающих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C:\Users\dima\Desktop\osobennosti-promyshlennoy-ventilyatsii.jpg"/>
          <p:cNvPicPr/>
          <p:nvPr/>
        </p:nvPicPr>
        <p:blipFill>
          <a:blip r:embed="rId1"/>
          <a:stretch/>
        </p:blipFill>
        <p:spPr>
          <a:xfrm>
            <a:off x="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dima\Desktop\osobennosti-promyshlennoy-ventilyatsii.jpg"/>
          <p:cNvPicPr/>
          <p:nvPr/>
        </p:nvPicPr>
        <p:blipFill>
          <a:blip r:embed="rId2"/>
          <a:stretch/>
        </p:blipFill>
        <p:spPr>
          <a:xfrm>
            <a:off x="327672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dima\Desktop\osobennosti-promyshlennoy-ventilyatsii.jpg"/>
          <p:cNvPicPr/>
          <p:nvPr/>
        </p:nvPicPr>
        <p:blipFill>
          <a:blip r:embed="rId3"/>
          <a:stretch/>
        </p:blipFill>
        <p:spPr>
          <a:xfrm>
            <a:off x="590400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Users\dima\Desktop\pnevmotransport111.jpg"/>
          <p:cNvPicPr/>
          <p:nvPr/>
        </p:nvPicPr>
        <p:blipFill>
          <a:blip r:embed="rId4"/>
          <a:stretch/>
        </p:blipFill>
        <p:spPr>
          <a:xfrm>
            <a:off x="0" y="0"/>
            <a:ext cx="356400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dima\Desktop\pnevmotransport111.jpg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7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аспирационных установках воздух движется при турбулентных режимах. С увеличением турбулентности (числа Рейнольдса) поле скоростей выравнивае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яя скорость потока воздуха меньше максимальной скорости, которая наблюдается в центре потока. В общем виде можно запис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F4BE-0A82-4EED-BA6D-10614B74A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877000" cy="11491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468360" y="3573360"/>
            <a:ext cx="7916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коэффициента </a:t>
            </a:r>
            <a:r>
              <a:rPr b="0" i="1" lang="el-GR" sz="2400" spc="-1" strike="noStrike">
                <a:solidFill>
                  <a:srgbClr val="7030a0"/>
                </a:solidFill>
                <a:latin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ламинарного потока равно 0,5, а для турбулентного определяется в зависимости от числ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йнольд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059280" y="4869000"/>
            <a:ext cx="2628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96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ри наладке аспирационных воздухопроводов комбикормовых заводов обычно принимают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= 0,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5300640"/>
            <a:ext cx="7848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3. Зависимость </a:t>
            </a:r>
            <a:r>
              <a:rPr b="0" lang="el-GR" sz="2000" spc="-1" strike="noStrike">
                <a:solidFill>
                  <a:srgbClr val="7030a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числа Рейнольд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019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юю скорость воздушного потока определяют для стан­дартного воздуха (барометрическое давление 101,5 кПа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20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носительная влажность воздуха =50%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1,2 к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292428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D46-E841-4C13-9EFF-F0707A5F9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021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4706-C710-44F4-B540-CD21E907E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395280" y="2133720"/>
            <a:ext cx="8424720" cy="17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ГРАФИК РАСПРЕДЕЛЕНИЯ ДАВЛЕНИЙ В ВЕНТИЛЯЦИОННЫХ ВОЗДУХОПРОВ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СКОРОСТИ И РАСХОДА ВОЗДУХА В ВОЗДУХОПРОВОДАХ АСПИР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ГРАФИК РАСПРЕДЕЛЕНИЯ ДАВЛЕНИЙ В ВЕНТИЛЯЦИОННЫХ ВОЗДУХОПРОВ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D78-EA4F-4547-B497-80DC6EAB0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516280"/>
            <a:ext cx="89647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.1. График распределения давлений в воздухопровод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45A7-A4B4-4B01-AC7F-F027434DB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378936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щее избыточное давление во входном отверстии всасывающего воздухопровода Н</a:t>
            </a:r>
            <a:r>
              <a:rPr b="0" lang="ru-RU" sz="2000" spc="-1" strike="noStrike" baseline="-25000">
                <a:solidFill>
                  <a:srgbClr val="7030a0"/>
                </a:solidFill>
                <a:latin typeface="Arial"/>
              </a:rPr>
              <a:t>о2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трицательно (так как потери давления всегда положительны) и равно потерям давления от первого до второго сечения Нпт1-2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аписываем уравнение Бернулли для двух любых последовательных сечений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Q/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Q/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0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ход воздуха,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ощадь поперечного сечения 1-1,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ечений 1-1 и 2-2 уравнение Бернулли в избыточных давлениях будет иметь следующий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C444-F300-4495-9ADC-BBBD17C26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467240" cy="70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3979800" cy="7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788184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Потери давления Н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т1-2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равны местным потерям давления на вход в воздухопровод Н</a:t>
            </a:r>
            <a:r>
              <a:rPr b="0" lang="ru-RU" sz="2400" spc="-1" strike="noStrike" baseline="-25000">
                <a:solidFill>
                  <a:srgbClr val="7030a0"/>
                </a:solidFill>
                <a:latin typeface="Arial"/>
              </a:rPr>
              <a:t>вх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вх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эффициент сопротивления входа.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татическое избыточное давление определяется как: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62D2-68E5-4957-84C4-D19BF0783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95280" y="0"/>
            <a:ext cx="8348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29160" cy="9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60483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ECC2-3C64-4F01-9F63-D8E5A71AF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642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рафик распределения давлений в нагнетательном воздухопроводе: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8"/>
          <p:cNvSpPr/>
          <p:nvPr/>
        </p:nvSpPr>
        <p:spPr>
          <a:xfrm>
            <a:off x="250920" y="4292640"/>
            <a:ext cx="8426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ую величину Но5, равную потерям давления от пятого до восьмого сечения, откладывают вверх от линии атмосферного давления в пятом сеч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ично определяют величины давления и для остальных сечений нагнетательного воздухопро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56280" cy="8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874872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7CCC-766D-48D7-9936-B004E2696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852640"/>
            <a:ext cx="8642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ыводы из графика распределения давлений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о всасывающих воздухопроводах общее и статическое избыточные давления отрицательны, а в нагнетательных - положительны. Поэтому во всасывающих воздухопроводах возможны подсосы, а в нагнетательных - утечки воздуха через неплотност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.Динамическое давление во всех воздухопроводах положительно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 всасывающих воздухопроводах статическое избыточное давление меньше, а в нагнетательных больше общего избыточного давления на величину динамического давл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 Во всех воздухопроводах общее абсолютное давление Р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Arial"/>
              </a:rPr>
              <a:t>о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больше статического абсолютного давления Р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на величину дина­мического давления Р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, т.е. Р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= Р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+ Р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. В любом поперечном сечении нагнетающего воздухопровода общее избыточное давление равно общим потерям давления от данного сечения до выхода в атмосферу, поэтому в выходном отвер­стии вентилятора (сечение 5-5) общие давления Н</a:t>
            </a:r>
            <a:r>
              <a:rPr b="0" lang="ru-RU" sz="2000" spc="-1" strike="noStrike" baseline="-25000">
                <a:solidFill>
                  <a:srgbClr val="7030a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и Ро будут максимальны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ПРЕДЕЛЕНИЕ СКОРОСТИ И РАСХОДА ВОЗДУХА В ВОЗДУХОПРОВОДАХ АСПИР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8569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)специальными приборами - анемометр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о динамическому давл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о расходу воздух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с) и площади поперечного сече­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з формулы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по расходу воздух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с) и площади поперечного сече­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з формулы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по показаниям охлаждающей способности воздуха кататермометро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Дж/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) из эмпирических формул (до 1-2 м/се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F887-2D0F-4942-9D95-783F6EC41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77300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тносительно небольших скоростях поток воздуха движется в ламинарном режиме, который имеет вытянутое вдоль оси поле скорос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увеличением скорости движение превращается в вихревое, струи потока воздуха приобретают колебательное движение. Такой режим потока называется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турбулент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коло стенок остается ламинарный слой, а в центре потока образуется ядро с вихревой струк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68360" y="5732640"/>
            <a:ext cx="813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. 2. Поле скоростей в воздухопроводе с ламинарным (а) и турбулентным (б) режимом потока: 1 - пограничный сл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центральное ядро п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FE72-66AC-468A-9867-C74E46BDB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791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5:19:47Z</dcterms:created>
  <dc:creator>User</dc:creator>
  <dc:description/>
  <dc:language>en-US</dc:language>
  <cp:lastModifiedBy>dima</cp:lastModifiedBy>
  <dcterms:modified xsi:type="dcterms:W3CDTF">2016-09-19T16:07:15Z</dcterms:modified>
  <cp:revision>136</cp:revision>
  <dc:subject/>
  <dc:title>АВТОМАТИЗАЦИЯ ПРОИЗВОДСТВ В ПИЩЕВОЙ ПРОМЫШЛЕННОСТИ</dc:title>
</cp:coreProperties>
</file>